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4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400" y="699840"/>
            <a:ext cx="46432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3550AE-39AC-4171-BC39-9C5EE1DD1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DD4FE2-0A0E-4A97-B214-6948B4476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4ED6BB-6EB3-4636-8A0E-490D09FED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3E04E8-D1A5-4563-9904-F6A4E1C4F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has struggled in third grade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16FB06-3D99-48E3-87C0-EB7CAF9DB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C7D1A0-3DB1-4DC5-85DF-085132D45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325000-DE1C-404F-B0D9-20E3A0739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FAF5CC-FDDC-439F-8BEE-596B68ABD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8C69C8-2AFE-43C2-A13A-B9BCC9CDE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A9FAF6-E904-4665-9752-23E48D441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A g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ind other districts in overall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DE968D-A1F1-47E3-A9D2-722809F89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603D50-DB1D-4393-BF17-AF53B07FC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83497D-6C57-422D-BFB9-41BE05027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F01B54-0E6F-41EB-B16F-C2810BA9E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3326B8-98B8-4EE9-BD8C-9859DDFC3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B5F6DF-8FED-4AD1-8CFF-1ABC80F7A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becomes more difficult in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have 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9BD800-D49B-4ED0-ABAD-29DF123E6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district, we have been focused on CA and we have seen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have lit support for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have MA support that we had when the math program was implem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need additional PD on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to get PD done after school and in 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55A334-D9C1-40A4-ADFB-A87B65EDF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increase and cohort 2008 and 2009 4/5—big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931AFC-CF85-4245-8A74-CFAED6305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5CB420-E719-4E0F-9AE7-4CBEE2E22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0ACCB3-0C63-46A9-BFCB-B41CBB4E4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0A1C77-D6DC-4C92-94CF-69CCFCFDC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A7CEDD-CE38-40CC-B561-780C98B25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6365EB-53ED-4829-A70D-526B70D96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ight discuss three measures of student performance that measure student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08-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DF8717-B8B3-43DD-A8C6-2AF9B348A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CDBDAB-12B7-4E4E-9A92-B1BB4405F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elayed cur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49374C-365F-43F4-A415-FDEAF5CA5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curric in 08-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09DBFD-6C1A-4775-9BCB-4A12A3375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53F73A-BDB5-4C47-8CD9-29F95C8CD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 performance across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p increases greater than total in all subgroups in 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p increases greater that total in 3/5  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ed by 3 in CA and 8 in 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DA7AB4-1A9A-4A5D-A1DB-D8F347BD3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 we have great increase, this is the reason why it is difficult to support NC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 AJ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aking in one subgroup will keep school from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a story of gap achievement rather than school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F0DB55-E85C-4578-87B8-66484B11A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 possible sanctions—state to choos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 programmatic f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e and implement a new cur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 district personnel relevant to the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particular  schools from the jurisdictions of he distr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 a receiver or trustee to administer the affairs of the distr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lish or restructure the distr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ize students to transfer from the district to another higher performing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 letters to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plan to impr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1AD5EE-6CC6-4D83-8F58-E71940946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61CCCE-2889-49F7-A62B-E9EE5A3DF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B63F46-B7B5-430B-91FA-97C34A545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D94D88-1F70-46C1-9FFC-75BDC1AA7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E7356A-8BEB-42C8-BA27-E8A3CC5B1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2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 Cour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2.4-----met High 1 even after courses were reco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er 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4------1.5 percent short of goal of moving to average 16.4—wanted to 17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Plac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.8------more accurate reporting data and still made—but did have a 11% 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er Ed Plac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2.3------met 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R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2.--------increased by 1.2 %--anticipated 1.0%; need 93.7 for Hig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d R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5.3------previous year 9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grou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re Floor—goal was to get to average—mOVED FROM 8/16 to 14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6F9F47-5451-44DC-88D2-161740209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ly normed 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29EFC9-1B03-4008-A345-BBEEBD3DB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16AB62-CC69-4462-A26E-CCD123F2D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9.4% of the District’s 1513 graduating seniors in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7ABD00-673F-4C57-8915-1DE9CAD03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CFC9C0-A2E6-49E9-949C-65531715B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his is the highest percentage of Heritage graduates to pursue a post secondary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F86804-C97F-4B4B-A5C3-E234DD249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BCC69E-A58F-47D0-B195-A55D40644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ional Learning Comm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rriculum – Fide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ction – Marzano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essments –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ional Development—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king info to PLC teams and working with th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adership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ent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INCREASE IN EXPECTATIONS THIS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FF72F0-D21A-4505-A626-DCBEEF9E8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in red reached highest attendance in five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F39AA6-E4E4-4546-B98D-D6D0A69EB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6CBE9B-CBDA-4625-B564-DFA573CF1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30A46B-491D-4EC7-952B-BAF1582D9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 30% students had 10 or more absences n 07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 26 % in 08-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3B2567-228D-40F2-ABCC-42D21E519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to have to teach the desired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 discipline refer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3FC7E9-B12C-4716-9711-2E8532670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F1559E-5654-4B7E-8F91-550CC3141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723DD7-4C97-40FE-934E-379602500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EA3525-0B94-42D6-AE17-79BB57E5E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708E-BF82-4F90-8E55-C1AAA5A8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AB9D-7301-4EE1-83F7-5F5A6E8B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29B3-AF8C-413F-8A67-8F2B66A1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3CFF-C0BC-4169-8F66-51DDBFF5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9327-DEC4-488F-BF1A-0B3C7883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5BE1-981B-4715-8500-42FC94E3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7911-9484-4DB2-80CB-B1CB3BBB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F087-EC0B-4F44-97EC-D3A8DCCA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0B7D-1CE0-417F-ACDA-203374C9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9B2-EF15-4B26-908B-60C8ADE3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602-72AB-46AD-85E7-F62706F3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852E-A210-469B-8C75-85BE1FE3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E Prelim AY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38DC-4E99-463E-9565-5567B5028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5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Annual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Student Performance Repor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0" y="3808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Francis Howel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School Distric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505320" y="5257800"/>
            <a:ext cx="510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sented by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. Pam Slo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tember 10, 20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28600" y="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8" descr="fhsd_3d_nobkgd"/>
          <p:cNvPicPr/>
          <p:nvPr/>
        </p:nvPicPr>
        <p:blipFill>
          <a:blip r:embed="rId2"/>
          <a:stretch/>
        </p:blipFill>
        <p:spPr>
          <a:xfrm>
            <a:off x="252360" y="304920"/>
            <a:ext cx="1500120" cy="1752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228600" y="1905120"/>
            <a:ext cx="8686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8600" y="2057400"/>
            <a:ext cx="8686800" cy="0"/>
          </a:xfrm>
          <a:prstGeom prst="line">
            <a:avLst/>
          </a:prstGeom>
          <a:ln w="76320">
            <a:solidFill>
              <a:srgbClr val="e68900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228600" y="1905120"/>
            <a:ext cx="8686800" cy="0"/>
          </a:xfrm>
          <a:prstGeom prst="line">
            <a:avLst/>
          </a:prstGeom>
          <a:ln w="57240">
            <a:solidFill>
              <a:srgbClr val="003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AYP—Adequate Yearly Progress</a:t>
            </a:r>
            <a:r>
              <a:rPr b="1" lang="en-US" sz="3200" spc="-1" strike="noStrike">
                <a:solidFill>
                  <a:srgbClr val="004182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ederal--NCL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04920" y="914400"/>
            <a:ext cx="8076960" cy="24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2008 GOAL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et benchmark in 12/16 MAP subgrou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et Additional Indicators—graduation rate and attendance r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et LEP—CA and 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et FRL—CA and 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04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Line 127"/>
          <p:cNvSpPr/>
          <p:nvPr/>
        </p:nvSpPr>
        <p:spPr>
          <a:xfrm>
            <a:off x="228600" y="251460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09480" y="2590920"/>
          <a:ext cx="7620120" cy="4022640"/>
        </p:xfrm>
        <a:graphic>
          <a:graphicData uri="http://schemas.openxmlformats.org/drawingml/2006/table">
            <a:tbl>
              <a:tblPr/>
              <a:tblGrid>
                <a:gridCol w="4343400"/>
                <a:gridCol w="990720"/>
                <a:gridCol w="114300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=Met    NM=Not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an/Pacific Isla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n Ameri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pa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/Reduced Lu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ua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ance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380880" y="-7632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3 COM AR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Oval 24"/>
          <p:cNvSpPr/>
          <p:nvPr/>
        </p:nvSpPr>
        <p:spPr>
          <a:xfrm>
            <a:off x="5257800" y="2286000"/>
            <a:ext cx="1905120" cy="327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Oval 25"/>
          <p:cNvSpPr/>
          <p:nvPr/>
        </p:nvSpPr>
        <p:spPr>
          <a:xfrm>
            <a:off x="3429000" y="2286000"/>
            <a:ext cx="1905120" cy="3276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Oval 26"/>
          <p:cNvSpPr/>
          <p:nvPr/>
        </p:nvSpPr>
        <p:spPr>
          <a:xfrm>
            <a:off x="1676520" y="2286000"/>
            <a:ext cx="1904760" cy="327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 Box 27"/>
          <p:cNvSpPr/>
          <p:nvPr/>
        </p:nvSpPr>
        <p:spPr>
          <a:xfrm>
            <a:off x="1736640" y="1327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1295280"/>
          <a:ext cx="9144000" cy="495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91440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380880" y="-15228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4 COM AR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Oval 14"/>
          <p:cNvSpPr/>
          <p:nvPr/>
        </p:nvSpPr>
        <p:spPr>
          <a:xfrm>
            <a:off x="7010280" y="2514600"/>
            <a:ext cx="1905120" cy="327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Oval 15"/>
          <p:cNvSpPr/>
          <p:nvPr/>
        </p:nvSpPr>
        <p:spPr>
          <a:xfrm>
            <a:off x="5257800" y="2514600"/>
            <a:ext cx="1905120" cy="3276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3429000" y="2514600"/>
            <a:ext cx="1905120" cy="3200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1660680" y="1555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-76320" y="1219320"/>
          <a:ext cx="914400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6320" y="1219320"/>
                    <a:ext cx="9144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5 COM AR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6934320" y="2590920"/>
            <a:ext cx="1904760" cy="3276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Oval 15"/>
          <p:cNvSpPr/>
          <p:nvPr/>
        </p:nvSpPr>
        <p:spPr>
          <a:xfrm>
            <a:off x="5181480" y="2514600"/>
            <a:ext cx="1828800" cy="327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1584360" y="163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-152280" y="1143000"/>
          <a:ext cx="914400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52280" y="1143000"/>
                    <a:ext cx="9144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57200" y="45720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CA Trends - Elementa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533520" y="13716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rade 3 and Grade 4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 in % proficien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al State increa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performed State in % profici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rade 5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rease in % proficien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al State increa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performed State in % profici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380880" y="-15228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6 COM AR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Oval 16"/>
          <p:cNvSpPr/>
          <p:nvPr/>
        </p:nvSpPr>
        <p:spPr>
          <a:xfrm>
            <a:off x="5029200" y="2514600"/>
            <a:ext cx="1905120" cy="327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Oval 17"/>
          <p:cNvSpPr/>
          <p:nvPr/>
        </p:nvSpPr>
        <p:spPr>
          <a:xfrm>
            <a:off x="3276720" y="2514600"/>
            <a:ext cx="1904760" cy="3276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Oval 18"/>
          <p:cNvSpPr/>
          <p:nvPr/>
        </p:nvSpPr>
        <p:spPr>
          <a:xfrm>
            <a:off x="1447920" y="2666880"/>
            <a:ext cx="1828800" cy="312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1508040" y="1555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-228600" y="990720"/>
          <a:ext cx="91440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28600" y="990720"/>
                    <a:ext cx="9144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380880" y="-2286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7 COM AR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6858000" y="2133720"/>
            <a:ext cx="1905120" cy="3276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Oval 15"/>
          <p:cNvSpPr/>
          <p:nvPr/>
        </p:nvSpPr>
        <p:spPr>
          <a:xfrm>
            <a:off x="5029200" y="2133720"/>
            <a:ext cx="1905120" cy="3276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Oval 16"/>
          <p:cNvSpPr/>
          <p:nvPr/>
        </p:nvSpPr>
        <p:spPr>
          <a:xfrm>
            <a:off x="3352680" y="2209680"/>
            <a:ext cx="1676520" cy="312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508040" y="117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-228600" y="762120"/>
          <a:ext cx="9144000" cy="533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28600" y="762120"/>
                    <a:ext cx="91440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380880" y="-2286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8 COM AR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7010280" y="2286000"/>
            <a:ext cx="1752840" cy="3276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5181480" y="2362320"/>
            <a:ext cx="1828800" cy="3200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1584360" y="1479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-152280" y="914400"/>
          <a:ext cx="9144000" cy="536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52280" y="914400"/>
                    <a:ext cx="914400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5335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CA Trends – Middle Scho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838080" y="1447920"/>
            <a:ext cx="79250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 6 and Grade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% pro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ct shows more growth than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erformed State in % pro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 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State trend with more students in pro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erformed State in % pro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0" y="228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            </a:t>
            </a: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2006-2008  Grade 11            </a:t>
            </a: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   2009</a:t>
            </a: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  English I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1447920"/>
          <a:ext cx="9144000" cy="525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7920"/>
                    <a:ext cx="914400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Line 14"/>
          <p:cNvSpPr/>
          <p:nvPr/>
        </p:nvSpPr>
        <p:spPr>
          <a:xfrm>
            <a:off x="7162920" y="259092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7543800" y="60800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EO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pdate the Board of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n the academic perform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f the district and to share improvement strate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457200" y="6094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CA Trends – High Scho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685800" y="1828800"/>
            <a:ext cx="8534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Course (EOC)—English I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first ye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ed in top10% of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erformed State in % proficient by more than 1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457200" y="380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3 MATHEMAT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Oval 12"/>
          <p:cNvSpPr/>
          <p:nvPr/>
        </p:nvSpPr>
        <p:spPr>
          <a:xfrm>
            <a:off x="5181480" y="2438280"/>
            <a:ext cx="1905120" cy="327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Oval 13"/>
          <p:cNvSpPr/>
          <p:nvPr/>
        </p:nvSpPr>
        <p:spPr>
          <a:xfrm>
            <a:off x="3429000" y="2438280"/>
            <a:ext cx="1905120" cy="3276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Oval 14"/>
          <p:cNvSpPr/>
          <p:nvPr/>
        </p:nvSpPr>
        <p:spPr>
          <a:xfrm>
            <a:off x="1523880" y="2209680"/>
            <a:ext cx="1981440" cy="3505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1584360" y="1708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-152280" y="1143000"/>
          <a:ext cx="914400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52280" y="11430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457200" y="380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4 MATHEMAT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Oval 16"/>
          <p:cNvSpPr/>
          <p:nvPr/>
        </p:nvSpPr>
        <p:spPr>
          <a:xfrm>
            <a:off x="6858000" y="2438280"/>
            <a:ext cx="1905120" cy="327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Oval 17"/>
          <p:cNvSpPr/>
          <p:nvPr/>
        </p:nvSpPr>
        <p:spPr>
          <a:xfrm>
            <a:off x="5105520" y="2438280"/>
            <a:ext cx="1904760" cy="3276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Oval 18"/>
          <p:cNvSpPr/>
          <p:nvPr/>
        </p:nvSpPr>
        <p:spPr>
          <a:xfrm>
            <a:off x="3200400" y="2286000"/>
            <a:ext cx="20574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1508040" y="163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-228600" y="1143000"/>
          <a:ext cx="9182160" cy="528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28600" y="1143000"/>
                    <a:ext cx="918216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57200" y="380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5 MATHEMAT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Oval 12"/>
          <p:cNvSpPr/>
          <p:nvPr/>
        </p:nvSpPr>
        <p:spPr>
          <a:xfrm>
            <a:off x="6781680" y="2209680"/>
            <a:ext cx="1981440" cy="3581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Oval 13"/>
          <p:cNvSpPr/>
          <p:nvPr/>
        </p:nvSpPr>
        <p:spPr>
          <a:xfrm>
            <a:off x="5029200" y="2362320"/>
            <a:ext cx="198108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1508040" y="163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-152280" y="1219320"/>
          <a:ext cx="906768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52280" y="1219320"/>
                    <a:ext cx="90676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609480" y="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MA Trends - Elementa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1447920" y="990720"/>
            <a:ext cx="91440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SD incr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slight incr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erformed State in % pro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SD slight decre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slight incr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erformed State in % pro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SD incre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incr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erformed State in % pro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457200" y="380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6 MATHEMAT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Oval 12"/>
          <p:cNvSpPr/>
          <p:nvPr/>
        </p:nvSpPr>
        <p:spPr>
          <a:xfrm>
            <a:off x="5105520" y="2286000"/>
            <a:ext cx="1904760" cy="327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Oval 13"/>
          <p:cNvSpPr/>
          <p:nvPr/>
        </p:nvSpPr>
        <p:spPr>
          <a:xfrm>
            <a:off x="3276720" y="2286000"/>
            <a:ext cx="1904760" cy="3276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Oval 14"/>
          <p:cNvSpPr/>
          <p:nvPr/>
        </p:nvSpPr>
        <p:spPr>
          <a:xfrm>
            <a:off x="1371600" y="2209680"/>
            <a:ext cx="2133720" cy="327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1508040" y="163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-228600" y="914400"/>
          <a:ext cx="914400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28600" y="914400"/>
                    <a:ext cx="9144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457200" y="380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7 MATHEMAT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Oval 12"/>
          <p:cNvSpPr/>
          <p:nvPr/>
        </p:nvSpPr>
        <p:spPr>
          <a:xfrm>
            <a:off x="5105520" y="2514600"/>
            <a:ext cx="1904760" cy="3429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Oval 13"/>
          <p:cNvSpPr/>
          <p:nvPr/>
        </p:nvSpPr>
        <p:spPr>
          <a:xfrm>
            <a:off x="6934320" y="2362320"/>
            <a:ext cx="1904760" cy="3581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Oval 14"/>
          <p:cNvSpPr/>
          <p:nvPr/>
        </p:nvSpPr>
        <p:spPr>
          <a:xfrm>
            <a:off x="3200400" y="2362320"/>
            <a:ext cx="2209680" cy="3504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1584360" y="1708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-152280" y="1295280"/>
          <a:ext cx="9144000" cy="533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52280" y="129528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457200" y="380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8 MATHEMAT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Oval 12"/>
          <p:cNvSpPr/>
          <p:nvPr/>
        </p:nvSpPr>
        <p:spPr>
          <a:xfrm>
            <a:off x="6781680" y="2438280"/>
            <a:ext cx="1905120" cy="3276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Oval 13"/>
          <p:cNvSpPr/>
          <p:nvPr/>
        </p:nvSpPr>
        <p:spPr>
          <a:xfrm>
            <a:off x="4952880" y="2286000"/>
            <a:ext cx="2210040" cy="3505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1584360" y="1708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-152280" y="1143000"/>
          <a:ext cx="8991360" cy="533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52280" y="1143000"/>
                    <a:ext cx="89913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MA Trends – Middle Scho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7621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 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SD had a slight incr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dropp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erformed State in % pro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SD had increase of 8.3% this 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increased sligh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erformed State in % pro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 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SD gain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ga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erformed State in % pro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7524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2006-08 </a:t>
            </a: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10</a:t>
            </a:r>
            <a:r>
              <a:rPr b="1" lang="en-US" sz="4400" spc="-1" strike="noStrike" baseline="30000">
                <a:solidFill>
                  <a:srgbClr val="000066"/>
                </a:solidFill>
                <a:latin typeface="Tahoma"/>
              </a:rPr>
              <a:t>th</a:t>
            </a: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 Grade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2009  </a:t>
            </a: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Algebra I (9</a:t>
            </a:r>
            <a:r>
              <a:rPr b="1" lang="en-US" sz="4400" spc="-1" strike="noStrike" baseline="30000">
                <a:solidFill>
                  <a:srgbClr val="000066"/>
                </a:solidFill>
                <a:latin typeface="Tahoma"/>
              </a:rPr>
              <a:t>th</a:t>
            </a: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371600"/>
          <a:ext cx="914400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Line 10"/>
          <p:cNvSpPr/>
          <p:nvPr/>
        </p:nvSpPr>
        <p:spPr>
          <a:xfrm>
            <a:off x="7086600" y="182880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7543800" y="5943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EO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How is Academic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Performance Measu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8600" y="2284560"/>
          <a:ext cx="9315360" cy="4051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4560"/>
                    <a:ext cx="9315360" cy="40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60948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MA Trends – High Scho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1066680" y="13716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Course (EOC)—Algebra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first ye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Ye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ed in top 20% of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erformed the state by 8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de Algebra I scores will not count until ninth gr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60948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5 SCIEN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20760" y="1405080"/>
          <a:ext cx="8502480" cy="5114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760" y="1405080"/>
                    <a:ext cx="850248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60948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8 SCIEN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54120" y="1720800"/>
          <a:ext cx="7835760" cy="4940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4120" y="1720800"/>
                    <a:ext cx="783576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SC Trends - Grades 5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de 5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SD de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increased sligh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erformed State in % Pro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de 8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SD f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in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erformed State in % Pro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6094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BIOLOGY I END OF COUR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93640" y="1460520"/>
          <a:ext cx="7954920" cy="507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3640" y="1460520"/>
                    <a:ext cx="795492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Biology I Trends– High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Course (EOC)—Biolog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first y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ed in top 3%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erformed the state by 21.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04920" y="-45396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182"/>
                </a:solidFill>
                <a:latin typeface="Arial"/>
              </a:rPr>
              <a:t>End-of-Course Exam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33"/>
          <p:cNvSpPr/>
          <p:nvPr/>
        </p:nvSpPr>
        <p:spPr>
          <a:xfrm>
            <a:off x="1523880" y="914400"/>
            <a:ext cx="6096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p Ten school districts for exam pass ra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Districts in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e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appear in all three top ten lists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36"/>
          <p:cNvSpPr/>
          <p:nvPr/>
        </p:nvSpPr>
        <p:spPr>
          <a:xfrm>
            <a:off x="3048120" y="205740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37"/>
          <p:cNvSpPr/>
          <p:nvPr/>
        </p:nvSpPr>
        <p:spPr>
          <a:xfrm>
            <a:off x="6172200" y="213372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38"/>
          <p:cNvSpPr/>
          <p:nvPr/>
        </p:nvSpPr>
        <p:spPr>
          <a:xfrm>
            <a:off x="0" y="289548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 Box 39"/>
          <p:cNvSpPr/>
          <p:nvPr/>
        </p:nvSpPr>
        <p:spPr>
          <a:xfrm>
            <a:off x="228600" y="5943600"/>
            <a:ext cx="47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. Louis Post Dispatch 08.13.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6320" y="2463840"/>
          <a:ext cx="9601200" cy="3479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463840"/>
                    <a:ext cx="9601200" cy="34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533520" y="-7632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82"/>
                </a:solidFill>
                <a:latin typeface="Tahoma"/>
              </a:rPr>
              <a:t>ACHIEVEMENT GAP CURRENT RE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228600" y="6324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LACK=Met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           RED=Not M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52280" y="1219320"/>
          <a:ext cx="8723520" cy="4381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219320"/>
                    <a:ext cx="872352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Line 11"/>
          <p:cNvSpPr/>
          <p:nvPr/>
        </p:nvSpPr>
        <p:spPr>
          <a:xfrm>
            <a:off x="4876920" y="1143000"/>
            <a:ext cx="0" cy="426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8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182"/>
                </a:solidFill>
                <a:latin typeface="Tahoma"/>
              </a:rPr>
              <a:t>FHSD Schools in Impr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 Weldo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Year 1 delay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rnwe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Year 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y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Year 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ell Midd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Year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llenbec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Year 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eg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Year 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ell Nor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Year 2 delay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ell Centra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Year 2 delay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04920" y="2438280"/>
            <a:ext cx="82296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4182"/>
                </a:solidFill>
                <a:latin typeface="Arial"/>
              </a:rPr>
              <a:t>District in Improvement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4182"/>
                </a:solidFill>
                <a:latin typeface="Arial"/>
              </a:rPr>
              <a:t>Level 3</a:t>
            </a:r>
            <a:br>
              <a:rPr sz="4400"/>
            </a:br>
            <a:r>
              <a:rPr b="1" lang="en-US" sz="4400" spc="-1" strike="noStrike">
                <a:solidFill>
                  <a:srgbClr val="004182"/>
                </a:solidFill>
                <a:latin typeface="Arial"/>
              </a:rPr>
              <a:t>Corrective Action Neede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2362320" y="3581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2008-2009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Board of Educatio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tudent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dentify learning gaps, align strategies and implement a rigorous curriculum to advance the achievement of all learners using the Professional Learning Communities school improvement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182"/>
                </a:solidFill>
                <a:latin typeface="Tahoma"/>
              </a:rPr>
              <a:t>St. Charles Cou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182"/>
                </a:solidFill>
                <a:latin typeface="Tahoma"/>
              </a:rPr>
              <a:t>School District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182"/>
                </a:solidFill>
                <a:latin typeface="Tahoma"/>
              </a:rPr>
              <a:t>(see noteboo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AP % Gai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2002-2009</a:t>
            </a:r>
            <a:r>
              <a:rPr b="1" lang="en-US" sz="4400" spc="-1" strike="noStrike">
                <a:solidFill>
                  <a:srgbClr val="004182"/>
                </a:solidFill>
                <a:latin typeface="Arial"/>
              </a:rPr>
              <a:t> 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49"/>
          <p:cNvSpPr/>
          <p:nvPr/>
        </p:nvSpPr>
        <p:spPr>
          <a:xfrm>
            <a:off x="228600" y="60958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066680"/>
          <a:ext cx="8610480" cy="5334120"/>
        </p:xfrm>
        <a:graphic>
          <a:graphicData uri="http://schemas.openxmlformats.org/drawingml/2006/table">
            <a:tbl>
              <a:tblPr/>
              <a:tblGrid>
                <a:gridCol w="1324080"/>
                <a:gridCol w="641160"/>
                <a:gridCol w="720720"/>
                <a:gridCol w="690480"/>
                <a:gridCol w="669960"/>
                <a:gridCol w="800280"/>
                <a:gridCol w="801720"/>
                <a:gridCol w="799920"/>
                <a:gridCol w="801720"/>
                <a:gridCol w="639720"/>
                <a:gridCol w="720720"/>
              </a:tblGrid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OTAL KI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/R LUN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FRICAN-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SPAN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lue Spring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7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7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lu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rancis Howe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7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7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7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7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7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7ef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t. Zumwa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azelw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ee’s Summ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ark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attonvil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ockw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7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7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pringf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t. Char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 Box 351"/>
          <p:cNvSpPr/>
          <p:nvPr/>
        </p:nvSpPr>
        <p:spPr>
          <a:xfrm>
            <a:off x="228600" y="6491160"/>
            <a:ext cx="2362320" cy="368280"/>
          </a:xfrm>
          <a:prstGeom prst="rect">
            <a:avLst/>
          </a:prstGeom>
          <a:solidFill>
            <a:srgbClr val="337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ighest % Gai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Ways to</a:t>
            </a:r>
            <a:r>
              <a:rPr b="1" lang="en-US" sz="4400" spc="-1" strike="noStrike">
                <a:solidFill>
                  <a:srgbClr val="004182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9933"/>
                </a:solidFill>
                <a:latin typeface="Tahoma"/>
              </a:rPr>
              <a:t>“</a:t>
            </a: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Meet</a:t>
            </a:r>
            <a:r>
              <a:rPr b="1" lang="en-US" sz="4400" spc="-1" strike="noStrike">
                <a:solidFill>
                  <a:srgbClr val="ff9933"/>
                </a:solidFill>
                <a:latin typeface="Tahoma"/>
              </a:rPr>
              <a:t>”</a:t>
            </a:r>
            <a:r>
              <a:rPr b="1" lang="en-US" sz="4400" spc="-1" strike="noStrike">
                <a:solidFill>
                  <a:srgbClr val="004182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371600"/>
          <a:ext cx="9144000" cy="4886280"/>
        </p:xfrm>
        <a:graphic>
          <a:graphicData uri="http://schemas.openxmlformats.org/drawingml/2006/table">
            <a:tbl>
              <a:tblPr/>
              <a:tblGrid>
                <a:gridCol w="2286000"/>
                <a:gridCol w="6858000"/>
              </a:tblGrid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High O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One SD above the mean for the stat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High Tw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/3 SD above the mean for the stat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Averag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Mean for the Stat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Below A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/3 SD below the mean for the stat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Flo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One SD below the mean for the stat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36"/>
          <p:cNvSpPr/>
          <p:nvPr/>
        </p:nvSpPr>
        <p:spPr>
          <a:xfrm>
            <a:off x="152280" y="632448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D—standard dev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APR—Annual Performance Report</a:t>
            </a:r>
            <a:r>
              <a:rPr b="1" lang="en-US" sz="3200" spc="-1" strike="noStrike">
                <a:solidFill>
                  <a:srgbClr val="004182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8 Goal – Meet 14/14 standards……..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685800" y="2336760"/>
          <a:ext cx="7391520" cy="4967280"/>
        </p:xfrm>
        <a:graphic>
          <a:graphicData uri="http://schemas.openxmlformats.org/drawingml/2006/table">
            <a:tbl>
              <a:tblPr/>
              <a:tblGrid>
                <a:gridCol w="3695760"/>
                <a:gridCol w="3695760"/>
              </a:tblGrid>
              <a:tr h="497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Stand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AP (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1                      Exc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1                      Exc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dvanced Cour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1                       M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areer Education Courses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ow Av                  Met (Combined)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ollege 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1                       M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areer Education 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1                       M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Graduation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2                       Exc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ttendance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1                       M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ubgroup Achiev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1                       Exc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Line 83"/>
          <p:cNvSpPr/>
          <p:nvPr/>
        </p:nvSpPr>
        <p:spPr>
          <a:xfrm>
            <a:off x="152280" y="20574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219320" y="21276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0880" y="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Advanced Placement (AP) Partici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127080" y="46080"/>
            <a:ext cx="82296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AutoShape 12"/>
          <p:cNvSpPr/>
          <p:nvPr/>
        </p:nvSpPr>
        <p:spPr>
          <a:xfrm>
            <a:off x="127080" y="46080"/>
            <a:ext cx="82296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457200" y="504720"/>
            <a:ext cx="8229600" cy="58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80880" y="914400"/>
          <a:ext cx="837576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14400"/>
                    <a:ext cx="83757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1219320" y="21276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152280" y="3049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Percent of 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Exams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Scoring 3 or Ab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Distri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-76320" y="1003320"/>
          <a:ext cx="9144000" cy="582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6320" y="1003320"/>
                    <a:ext cx="914400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219320" y="21276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914400" y="3049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182"/>
                </a:solidFill>
                <a:latin typeface="Tahoma"/>
              </a:rPr>
              <a:t>FHSD ACT Particip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28600" y="861840"/>
          <a:ext cx="8458200" cy="508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861840"/>
                    <a:ext cx="8458200" cy="50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4"/>
          <p:cNvSpPr/>
          <p:nvPr/>
        </p:nvSpPr>
        <p:spPr>
          <a:xfrm>
            <a:off x="5715000" y="6019920"/>
            <a:ext cx="2971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57200" y="1219320"/>
          <a:ext cx="8163000" cy="543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219320"/>
                    <a:ext cx="8163000" cy="54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Text Box 2"/>
          <p:cNvSpPr/>
          <p:nvPr/>
        </p:nvSpPr>
        <p:spPr>
          <a:xfrm>
            <a:off x="1219320" y="21276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457200" y="53640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182"/>
                </a:solidFill>
                <a:latin typeface="Tahoma"/>
              </a:rPr>
              <a:t>ACT Composite Score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ational Measur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SD Goal 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5791320" y="5943600"/>
            <a:ext cx="312408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ORE                     23.8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LESS THAN CORE 20.6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arly Child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Heritage Alternative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2008-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 students graduated in June; three are pursuing a post secondary educ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2009-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 students have developed SMART goals relating to achievement, attendance and behavi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 achievement goals are related to improving their use of non-fiction wri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2008-09 CSIP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R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n 14/14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YP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ederal/NCL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 in 12/16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 graduation and attendanc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Francis Howell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1"/>
          <p:cNvSpPr/>
          <p:nvPr/>
        </p:nvSpPr>
        <p:spPr>
          <a:xfrm>
            <a:off x="685800" y="3049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Performance Challeng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2819520" y="1111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152280" y="1981080"/>
            <a:ext cx="9144000" cy="38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173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lementary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760" indent="-173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—K-5; MA 3, 4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 6, 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-173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tle One School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 6, 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-173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7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igh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7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go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Relevanc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CURRICULUM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reer Ed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group improv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ttendance—sub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ropout—subgroup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Improvement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304920" y="1447920"/>
            <a:ext cx="8686800" cy="61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fessional Learning Commun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urriculum – Fide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struction – Marzano Strateg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sessments – Data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rven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onitoring lear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fessional Development—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adership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rent Invol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dditional Local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3880" y="179856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tte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HSD Attendance 2005-2009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leme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1371600"/>
          <a:ext cx="9144000" cy="5334120"/>
        </p:xfrm>
        <a:graphic>
          <a:graphicData uri="http://schemas.openxmlformats.org/drawingml/2006/table">
            <a:tbl>
              <a:tblPr/>
              <a:tblGrid>
                <a:gridCol w="831960"/>
                <a:gridCol w="830160"/>
                <a:gridCol w="831960"/>
                <a:gridCol w="831600"/>
                <a:gridCol w="830520"/>
                <a:gridCol w="831600"/>
                <a:gridCol w="830520"/>
                <a:gridCol w="831600"/>
                <a:gridCol w="831960"/>
                <a:gridCol w="830160"/>
                <a:gridCol w="831960"/>
              </a:tblGrid>
              <a:tr h="98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B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F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J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W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6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6.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5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5.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5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5.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6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6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Line 442"/>
          <p:cNvSpPr/>
          <p:nvPr/>
        </p:nvSpPr>
        <p:spPr>
          <a:xfrm>
            <a:off x="838080" y="13716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Line 443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HSD Attendance 2005-2009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iddle and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0" y="1523880"/>
          <a:ext cx="9144000" cy="5105520"/>
        </p:xfrm>
        <a:graphic>
          <a:graphicData uri="http://schemas.openxmlformats.org/drawingml/2006/table">
            <a:tbl>
              <a:tblPr/>
              <a:tblGrid>
                <a:gridCol w="592200"/>
                <a:gridCol w="761760"/>
                <a:gridCol w="762120"/>
                <a:gridCol w="762120"/>
                <a:gridCol w="761760"/>
                <a:gridCol w="762120"/>
                <a:gridCol w="847800"/>
                <a:gridCol w="846000"/>
                <a:gridCol w="762120"/>
                <a:gridCol w="762120"/>
                <a:gridCol w="761760"/>
                <a:gridCol w="76212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H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H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H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H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6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5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5.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5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3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5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.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.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.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Line 496"/>
          <p:cNvSpPr/>
          <p:nvPr/>
        </p:nvSpPr>
        <p:spPr>
          <a:xfrm>
            <a:off x="4419720" y="16002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Line 497"/>
          <p:cNvSpPr/>
          <p:nvPr/>
        </p:nvSpPr>
        <p:spPr>
          <a:xfrm>
            <a:off x="6858000" y="16002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6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685800" y="609480"/>
          <a:ext cx="7924680" cy="5181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609480"/>
                    <a:ext cx="792468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0+ Absences - Eleme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52280" y="914400"/>
          <a:ext cx="8839440" cy="5791320"/>
        </p:xfrm>
        <a:graphic>
          <a:graphicData uri="http://schemas.openxmlformats.org/drawingml/2006/table">
            <a:tbl>
              <a:tblPr/>
              <a:tblGrid>
                <a:gridCol w="2819520"/>
                <a:gridCol w="2657520"/>
                <a:gridCol w="1519200"/>
                <a:gridCol w="1843200"/>
              </a:tblGrid>
              <a:tr h="660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2007-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2008-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cky Dav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.4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tl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.6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.5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iel Bo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rm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.7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der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3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rvest Ri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.3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Wel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.5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pend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1.6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.6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Elementary Tot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18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16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12.7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2057400" y="152388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542"/>
          <p:cNvSpPr/>
          <p:nvPr/>
        </p:nvSpPr>
        <p:spPr>
          <a:xfrm>
            <a:off x="1230480" y="101520"/>
            <a:ext cx="65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10+ Absences – High School/Middle Sch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52280" y="609480"/>
          <a:ext cx="8839440" cy="6242040"/>
        </p:xfrm>
        <a:graphic>
          <a:graphicData uri="http://schemas.openxmlformats.org/drawingml/2006/table">
            <a:tbl>
              <a:tblPr/>
              <a:tblGrid>
                <a:gridCol w="3125880"/>
                <a:gridCol w="1905120"/>
                <a:gridCol w="1903320"/>
                <a:gridCol w="1905120"/>
              </a:tblGrid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2007-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2008-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Percent +/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F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-16.6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Heri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0.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-100.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FH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5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-6.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FH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7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6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-17.6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FH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6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6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-4.3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High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School To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2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18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-12.2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Barnw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3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-15.3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Hollenb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2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2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0.8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FH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2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-19.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Sa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2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2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-0.4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Bryan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2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-38.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Middl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 School To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1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1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-15.4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0+ Absences Report—Distric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28600" y="1371600"/>
          <a:ext cx="8610480" cy="5334120"/>
        </p:xfrm>
        <a:graphic>
          <a:graphicData uri="http://schemas.openxmlformats.org/drawingml/2006/table">
            <a:tbl>
              <a:tblPr/>
              <a:tblGrid>
                <a:gridCol w="2666880"/>
                <a:gridCol w="2133720"/>
                <a:gridCol w="1941480"/>
                <a:gridCol w="1868400"/>
              </a:tblGrid>
              <a:tr h="99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07-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08-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cent 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High Sch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2.2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Middle Sch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5.4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Element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2.7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dentify learn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E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S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ign strategie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iculu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m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ion    Interven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lement a rigorous curriculum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ote 66 curricu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igned to state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vance the achievement of all learner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M—CA 3, M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—CA and M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S—sub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the Professional Learning Communities school improvemen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88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2008-2009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Board of Education 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1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1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lementary Discip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28600" y="1752480"/>
          <a:ext cx="8686800" cy="3360960"/>
        </p:xfrm>
        <a:graphic>
          <a:graphicData uri="http://schemas.openxmlformats.org/drawingml/2006/table">
            <a:tbl>
              <a:tblPr/>
              <a:tblGrid>
                <a:gridCol w="958680"/>
                <a:gridCol w="1148040"/>
                <a:gridCol w="1147680"/>
                <a:gridCol w="1147680"/>
                <a:gridCol w="1224000"/>
                <a:gridCol w="1224000"/>
                <a:gridCol w="1836720"/>
              </a:tblGrid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005-09 %   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I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28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O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Text Box 2708"/>
          <p:cNvSpPr/>
          <p:nvPr/>
        </p:nvSpPr>
        <p:spPr>
          <a:xfrm>
            <a:off x="304920" y="5486400"/>
            <a:ext cx="367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S-In-school suspen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SS-Out of school suspen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MS/HS Discip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44"/>
          <p:cNvSpPr/>
          <p:nvPr/>
        </p:nvSpPr>
        <p:spPr>
          <a:xfrm>
            <a:off x="152280" y="6095880"/>
            <a:ext cx="405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SS-In-school suspen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SS-Out of school suspen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0" y="990720"/>
          <a:ext cx="9144000" cy="2146320"/>
        </p:xfrm>
        <a:graphic>
          <a:graphicData uri="http://schemas.openxmlformats.org/drawingml/2006/table">
            <a:tbl>
              <a:tblPr/>
              <a:tblGrid>
                <a:gridCol w="2041560"/>
                <a:gridCol w="979560"/>
                <a:gridCol w="1119240"/>
                <a:gridCol w="1207800"/>
                <a:gridCol w="1182960"/>
                <a:gridCol w="1307880"/>
                <a:gridCol w="130500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Middle 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% 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I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4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O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8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0" y="3733920"/>
          <a:ext cx="8991720" cy="2224080"/>
        </p:xfrm>
        <a:graphic>
          <a:graphicData uri="http://schemas.openxmlformats.org/drawingml/2006/table">
            <a:tbl>
              <a:tblPr/>
              <a:tblGrid>
                <a:gridCol w="2006640"/>
                <a:gridCol w="963720"/>
                <a:gridCol w="1123920"/>
                <a:gridCol w="1123920"/>
                <a:gridCol w="1204920"/>
                <a:gridCol w="1284120"/>
                <a:gridCol w="128448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High 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% 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I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O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762120" y="549360"/>
            <a:ext cx="761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2009-2010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Board of Education Go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152280" y="2286000"/>
            <a:ext cx="9677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Identify and close learning 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Align research-based strategies to improve teaching 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arn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Implement and monitor a rigorous curriculum to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vance the achievement of all learn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Use PL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2009-10 CSIP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Federal/NCLB/AYP Goa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Meet in 12/16 sub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lose the gaps in those groups who do not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2009-10 CSIP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TATE/APR Goal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  Meet 14/14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08-09 GOAL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09-10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 (6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H1; 2 H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-H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2.8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.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er 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6.4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.9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ge Place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75.8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er Ed Place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2.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d R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2.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nd R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5.3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H1N1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grou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7.5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met in alt methods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chievement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ment G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tendance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ily attend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than 10 abse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tion 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Behavior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behalf of the FHSD students—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THANK YOU  </a:t>
            </a: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FHSD STAFF  </a:t>
            </a: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and </a:t>
            </a: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omm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4228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ce is never an accident. It is always the result of high intention, sincere effort, and intelligent execution…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Aristotl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Ways to</a:t>
            </a:r>
            <a:r>
              <a:rPr b="1" lang="en-US" sz="4000" spc="-1" strike="noStrike">
                <a:solidFill>
                  <a:srgbClr val="004182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9933"/>
                </a:solidFill>
                <a:latin typeface="Tahoma"/>
              </a:rPr>
              <a:t>“</a:t>
            </a:r>
            <a:r>
              <a:rPr b="1" lang="en-US" sz="4000" spc="-1" strike="noStrike">
                <a:solidFill>
                  <a:srgbClr val="ff9900"/>
                </a:solidFill>
                <a:latin typeface="Tahoma"/>
              </a:rPr>
              <a:t>Meet</a:t>
            </a:r>
            <a:r>
              <a:rPr b="1" lang="en-US" sz="4000" spc="-1" strike="noStrike">
                <a:solidFill>
                  <a:srgbClr val="ff9933"/>
                </a:solidFill>
                <a:latin typeface="Tahoma"/>
              </a:rPr>
              <a:t>”</a:t>
            </a:r>
            <a:r>
              <a:rPr b="1" lang="en-US" sz="4000" spc="-1" strike="noStrike">
                <a:solidFill>
                  <a:srgbClr val="004182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Federal/NCL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920960"/>
          <a:ext cx="6782040" cy="3794040"/>
        </p:xfrm>
        <a:graphic>
          <a:graphicData uri="http://schemas.openxmlformats.org/drawingml/2006/table">
            <a:tbl>
              <a:tblPr/>
              <a:tblGrid>
                <a:gridCol w="1946520"/>
                <a:gridCol w="4835520"/>
              </a:tblGrid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4182"/>
                          </a:solidFill>
                          <a:latin typeface="Tahoma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4182"/>
                          </a:solidFill>
                          <a:latin typeface="Tahoma"/>
                        </a:rPr>
                        <a:t>Y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4182"/>
                          </a:solidFill>
                          <a:latin typeface="Tahoma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4182"/>
                          </a:solidFill>
                          <a:latin typeface="Tahoma"/>
                        </a:rPr>
                        <a:t>Growth Mode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4182"/>
                          </a:solidFill>
                          <a:latin typeface="Tahoma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4182"/>
                          </a:solidFill>
                          <a:latin typeface="Tahoma"/>
                        </a:rPr>
                        <a:t>Safe Harb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4182"/>
                          </a:solidFill>
                          <a:latin typeface="Tahoma"/>
                        </a:rPr>
                        <a:t>C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4182"/>
                          </a:solidFill>
                          <a:latin typeface="Tahoma"/>
                        </a:rPr>
                        <a:t>Confidence Interv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4182"/>
                          </a:solidFill>
                          <a:latin typeface="Tahoma"/>
                        </a:rPr>
                        <a:t>S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4182"/>
                          </a:solidFill>
                          <a:latin typeface="Tahoma"/>
                        </a:rPr>
                        <a:t>Safe Harbor and Confidence Interv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60280" y="0"/>
          <a:ext cx="8623440" cy="857160"/>
        </p:xfrm>
        <a:graphic>
          <a:graphicData uri="http://schemas.openxmlformats.org/drawingml/2006/table">
            <a:tbl>
              <a:tblPr/>
              <a:tblGrid>
                <a:gridCol w="5486400"/>
                <a:gridCol w="3137040"/>
              </a:tblGrid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souri Department of Elementary and Secondary Education</a:t>
                      </a:r>
                      <a:br>
                        <a:rPr sz="600"/>
                      </a:b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IS HOWELL R-III (092088 )</a:t>
                      </a:r>
                      <a:br>
                        <a:rPr sz="600"/>
                      </a:b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LIMINARY Adequate Yearly Progress**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5756400" y="0"/>
          <a:ext cx="3117600" cy="838080"/>
        </p:xfrm>
        <a:graphic>
          <a:graphicData uri="http://schemas.openxmlformats.org/drawingml/2006/table">
            <a:tbl>
              <a:tblPr/>
              <a:tblGrid>
                <a:gridCol w="1461960"/>
                <a:gridCol w="876240"/>
                <a:gridCol w="779400"/>
              </a:tblGrid>
              <a:tr h="209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s*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unication Art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hematic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ired Action:   District Improvement Level 3, Corrective Action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28600" y="853920"/>
          <a:ext cx="8667720" cy="8805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853920"/>
                    <a:ext cx="8667720" cy="880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9800" y="343080"/>
          <a:ext cx="8070840" cy="6238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9800" y="343080"/>
                    <a:ext cx="807084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2:32:50Z</dcterms:created>
  <dc:creator>FHSD</dc:creator>
  <dc:description/>
  <dc:language>en-US</dc:language>
  <cp:lastModifiedBy>teacher</cp:lastModifiedBy>
  <dcterms:modified xsi:type="dcterms:W3CDTF">2009-11-03T03:26:09Z</dcterms:modified>
  <cp:revision>211</cp:revision>
  <dc:subject/>
  <dc:title>Data Workshop</dc:title>
</cp:coreProperties>
</file>